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095066"/>
        <c:axId val="67844280"/>
      </c:barChart>
      <c:catAx>
        <c:axId val="160950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844280"/>
        <c:crosses val="autoZero"/>
        <c:auto val="1"/>
        <c:lblAlgn val="ctr"/>
        <c:lblOffset val="100"/>
        <c:noMultiLvlLbl val="0"/>
      </c:catAx>
      <c:valAx>
        <c:axId val="678442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0950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788B-8473-4DD0-B227-327C444C7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A887-E5C5-4011-B989-40FD340FB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E42D-D9C9-4729-A469-23880949E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7204-C466-403E-9186-025C8CA8D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EE6F-F307-4409-88F3-E885A1390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68D7-B19C-4956-8F0D-EBDDDCFFF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E0E9-F4BE-410C-978B-E73369071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526E-C74B-4E7C-A27D-08BFC846C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E7FE-3792-4FD1-A934-94EE8B087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4E3A-AFA8-4D85-8096-18714067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8466-ECC9-4FE6-AC22-1865F25F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805F-48CB-442B-883E-03503D94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A890AC-55DB-4B33-8B83-DE9183BCAB5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