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53119"/>
        <c:axId val="73727910"/>
      </c:barChart>
      <c:catAx>
        <c:axId val="10753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27910"/>
        <c:crosses val="autoZero"/>
        <c:auto val="1"/>
        <c:lblAlgn val="ctr"/>
        <c:lblOffset val="100"/>
        <c:noMultiLvlLbl val="0"/>
      </c:catAx>
      <c:valAx>
        <c:axId val="73727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53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521-DF68-4CCD-A809-18301007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007-6BCE-42BA-ADE9-BCCF169C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698E-6559-4FCF-BBE6-6FF82227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347-8CB0-4DA0-9B55-1E3EB449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6C2-340A-4995-8100-29650762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B3A-9891-4FAB-A0E5-DAFB22D7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54E-BCAE-4FBF-A09C-FA60DD92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608-A062-4FE2-9B19-2496D8DB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27E-A96C-4AC8-AB4B-2D24A3ED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985-EB14-4EC6-AF46-9D1C6785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E3B6-AC65-440D-8FBA-94C171FE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F2A-7724-42B0-9ED5-C7D62A92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FEDDB-48B8-402E-93E3-2E9143C679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