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628764"/>
        <c:axId val="36682975"/>
      </c:barChart>
      <c:catAx>
        <c:axId val="266287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82975"/>
        <c:crosses val="autoZero"/>
        <c:auto val="1"/>
        <c:lblAlgn val="ctr"/>
        <c:lblOffset val="100"/>
        <c:noMultiLvlLbl val="0"/>
      </c:catAx>
      <c:valAx>
        <c:axId val="366829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6287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740F-9197-4127-B218-B28869D91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92A8-CF29-4696-B5B2-06E9ECD2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937A-E102-46C7-878B-8E999BF10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660E-4DF2-46F2-AA1B-D4878B13B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78B9-74BC-48DB-950A-B6B71442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5C14-23F9-43A6-A105-35C8BCD9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B679-355C-46F2-8103-6FF13B58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5DAC-7C06-406B-8F34-0687B4C1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3832-1225-40CF-9DD2-73D8FCF8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40A8-3D09-4048-B823-E5E8B9CD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8D08-374D-4168-B67D-773A96CA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CC9D-D9E3-460B-A1E0-6BE146AD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C601C-DF75-4F3F-81A7-67E1D6420E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