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151-7BA3-4C7A-9955-4F61CB7C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D24-AAB7-419C-872C-A37B7A66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040-0A91-4754-93D8-EC360099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84F-A9AA-4349-83BF-D831DB0E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D6F3-FFE8-4D0E-8348-65C5F592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0E91-8399-41B8-9337-5B5CDE6B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5F9D-6782-4C9F-9A22-1F65CFE4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7BA-E5E0-4664-9021-DC4656C6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3F7C-0FD6-46C2-A5AC-4D1BE754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69DC-2420-41DB-BFE4-CBA7C5ED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301A-B661-43E1-8038-C873E17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1C1-FEEF-4843-B423-43F05980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64C9-E8E4-456C-A48F-6BC96FE4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C7F6-03BE-4ADC-88ED-97BE736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F26A-163A-4069-975F-B986264D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118A-B087-48FD-9777-9B4C6195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52CB-0E99-40E7-A0D1-73BFB0F2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FD1-084D-421E-B4CB-AE69243E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D7F-5D8F-4C10-A6C7-0465878B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F6A-9211-4ED1-B712-FF239D2A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322-A38D-480F-B02E-965DBE70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63D-ADB4-4176-9BC8-B3A6EA89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9C9-45E4-45DB-A5B8-AC9A414A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52F-9E35-420C-9E1E-9827F573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D48F-E846-41C4-AD4F-F2B4F853D02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BA08-A4AA-4D40-808A-F7CDC15554C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V - Tema D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en GNU/Linu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294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 de auditoria.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004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pu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NMA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CG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GI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Whis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i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atapool (D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INT, Messala, RvScan, Sara, landguard  (A.V.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1962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con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roducción a una audi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SS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ne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ditoria de DoS y otras inci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blan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análisis y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: Calidad, confidencialidad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tras: Fisicas, social, basura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acking etic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étodo vs Conoci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, cut and p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Fo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mon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lugi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72120" y="1476360"/>
            <a:ext cx="397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canning/N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71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i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2625840"/>
            <a:ext cx="4643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 go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5435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6Z</dcterms:modified>
  <cp:revision>36</cp:revision>
  <dc:subject/>
  <dc:title>Políticas de Seguridad en entornos GNU</dc:title>
</cp:coreProperties>
</file>