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CB9-2BEC-4F6D-9673-8BB1120E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30D-A174-49FD-9B88-75247736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394-0CB6-464F-B9C0-E10E1CE4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046-4184-417F-8A7A-110EC1F7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AA8A-6368-4F1C-8AFF-AECB4537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FB5C-7098-4113-BDFA-3AB062FB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CD69-E852-4418-B70C-AE13BB9A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2A60-C30F-4AB0-B259-13F14F49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7FE2-D976-4B68-B9D5-3D63FF40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A337-0508-45F6-81A8-372D898A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1F53-1054-4CF2-B580-EA59F8C6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A68-7A10-4064-AAF3-839B3D64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23E8-A496-49A4-88FB-49FDE3A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1F38-49DD-4183-9D19-E94AFAE9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5E9B-9E25-4357-990E-A21855D9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3FA9-4D5A-4AD3-92FA-F60D01CE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6030-5F08-4230-9D59-E0671233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EE5-2F20-47A7-81C5-3F6067B4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07A-040E-46A8-BD41-49D6690F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F81-DF28-433C-956C-DEE28763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0F5-58F7-4C91-965A-DF7E7B92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986-A373-4CEE-8EAA-4C63A8B6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CF7-59BF-478F-A030-62C0E34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B46-C9C1-4650-8C82-6A040AA6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2D50-2FB1-4DC8-A4BC-590DB167999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79E0-BDF0-490B-81A2-3208F171B84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I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eces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cesidad de una Política de Seguridad en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19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Justifi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us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blece lo que se puede hacer y lo que no, de forma escrita y formal. Se puede leer y es algo escrito y acep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uestra que la empresa se lo quiere tomar en serio. Implica un compromiso con los dire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frente a una auditoria, sobre todo si se siguen las normaliz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para demostrar casos de intrusiones o delitos contra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84800"/>
            <a:ext cx="32004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isis. Normalización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.           ISO 17799, BS7799, RFC 21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tandard y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gurosidad y Mé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ing ”etic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ormalización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er vs Administ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Teoría de la “presa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3176640"/>
          <a:ext cx="531468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6640"/>
                    <a:ext cx="5314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Ámbi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sonas implicadas y responsabilidades en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quip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ción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no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Ambit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8120" y="1998720"/>
          <a:ext cx="60958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98720"/>
                    <a:ext cx="60958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ministrador vs Hacker. Teoria de la 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 peligros.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ificación en niveles de seguridad. Normal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e prote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comprometida o confid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es de negocio, nominas, contratos, listados passwords, informacion de cl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val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cumentacion, desarrollos de I+D, historicos y archiv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versiones e infraes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figuraciones, logs, backups, bbdd, webs, intranets, Acceso a servidores, electrónica y hardware costos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4307040"/>
            <a:ext cx="2743200" cy="23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971800" y="1846440"/>
          <a:ext cx="617220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46440"/>
                    <a:ext cx="6172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confidenci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no autorizados a información confid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públicos a informacion confidencial, por error, mala configuracion o desc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plantación de usu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servicios confidenciales (correo, bbdd, servidores de acceso, et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talación de caballos de tro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eniería de seguridad.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nimiento e inc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37160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)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integ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indebida de datos (fallo de permi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ta de integridad (borrado o modificación)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osibilidad de idenficar fuente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en la integridad de bases de dato (corrupc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en archivos de sistema (configuraciones, log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o corrupción de back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ida de servicios externos. (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tamiento de recursos (ancho de banda, disco, socket, etc). (DoS o mala conf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de infraestructuras generales de red (routing, switches, etc). (DoS, fallo, mala configuración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de configuraciones o servicios. (DoS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infraestructura básica. Sabo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sos historicos: Yahoo, Amazon, eBay, etc. Perdi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ecnicas varias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specificacion protoco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cion deficiente (buffer overf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los servicios: Fuerza bruta, trojan,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poofing vario (IP, DNS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ssion hij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enieria social y acceso fi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DoS y gus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umen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informacion sen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S y fallos de progra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 uso de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ra un firewall suficien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xiste algo suficiente por si mismo para garantizar la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Introduc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llevar esto a la práct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SO 17799 y BS 77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range Book (DoD EEUU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ERT Security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as gu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ndo sub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mas importantes y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o de los recursos del sistem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uentas de usuario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otección de la informa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legal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general de los sistemas informáticos en produc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backup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ontrol de acce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y permi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físic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395928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ducación en el ámbito de la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evencion y detección de 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uidad de nego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ass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 (continu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interna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terven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cid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lta disponibilidad y redund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guardias 24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itica de gestion de recurso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monitor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ncriptación y ocultación de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lásico Ing. de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71800" y="2158920"/>
          <a:ext cx="5334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8920"/>
                    <a:ext cx="5334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24080" y="2971800"/>
          <a:ext cx="5715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5715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40381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97120" y="1981080"/>
          <a:ext cx="64468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981080"/>
                    <a:ext cx="64468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es una Politica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seguridad obtenida sólo con medios técnicos es limitada”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 técnica que la respalde, la seguridad es papel mojad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”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informa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 Que es ?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es un 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Tecnicos: Man in the middle, spoofing, autenticación débi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no tecnicos: Señora de la limpieza, fallos humanos, mal diseño, poco control en la organización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evin Mid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¡ QUE ES !?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Que es una política de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usiones varias al resp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onjunto de documentos, con un orden y una sistemat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cribe paso a paso los distintos elementos de una politica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talla riesgos y pelig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o protegerse frente a esos riesgos, medidas a tomar y detalles de esas med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medidas tomar frente a posibles inci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hacer en el peor de los 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se vende ni se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isten productos que hagan t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seguridad se vende con el mie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riesgo es real, las consecuencias diver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gura del Consultor / Tecnico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1Z</dcterms:modified>
  <cp:revision>33</cp:revision>
  <dc:subject/>
  <dc:title>Políticas de Seguridad en entornos GNU</dc:title>
</cp:coreProperties>
</file>