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0895C8C-1903-4351-A80D-069463BB5AE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3AC43DE-4EBF-4269-A3F1-EBC69EAC594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2D8C0FC-358C-40D0-9D10-159C7668D84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32D7875-7754-43FE-AA1F-EC9A2A1F7A6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8168C8B-48A7-49C6-A601-F8324BEFEE7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C288876-129D-4A93-8341-637431ED125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7DFAC46-A508-4CF1-8401-64D5BC00EB3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838583-F05C-4F24-B3D9-6CBE08EE62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2BF7F9-E1E1-493E-849F-D85A22BA1A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6BD7E0-B813-4760-B70A-FF27FF3682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1A47A8-B1D7-42CF-91F3-4AEBD515A8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82DBC8-EAC2-4EDB-BA4A-529229589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EBDED-5EDA-44A6-AEDC-B218C4DC5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773BE-497B-4B16-860E-AA9749048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0EE26-8642-4306-AD54-AA0C7D291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A810AD-7452-4C2E-BA45-783D47746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6D700-8551-43AE-9674-3533F067E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1E22A-AB0D-44D4-8F4A-64EF07DF8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84EBCA-C4FF-4203-90DB-F4F05821F8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39DA2D-A28E-4D0C-A61B-EFFFFFC54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09B73-8879-45C9-844B-844C1AD97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00EDA-463E-46E1-922F-E15F03209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9381B9-9163-4900-AB96-4192A4EB3C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C84519-68B8-4F44-844A-CA9CE83FB9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9F342-E2D8-4E46-9D47-C386B59A57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E96DF7-36BC-48DA-BC02-182EC13CDC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888CFA-E8AB-4968-BE47-781A9D4F55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9C4435-3722-47D0-BCE3-D1E77BCEB7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ED4977-2ABE-424B-BBC7-2B11E5F3AC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7C38FC-6E77-4D4B-B3D4-A5B87C3301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AB9BFA-A3DA-4CF2-AA9E-FC8E7DD383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75DE-F6EB-422A-A44A-32124CA0AA0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9385-1756-4727-9B24-2F80138181E8}"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73D2C69B-2594-4F02-BC35-502C234CCEDA}" type="datetime3">
              <a:rPr b="0" lang="en-US" sz="2000" spc="-1" strike="noStrike">
                <a:solidFill>
                  <a:srgbClr val="ffffcc"/>
                </a:solidFill>
                <a:latin typeface="Tahoma"/>
              </a:rPr>
              <a:t>July 31,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