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D268223-A868-43C9-BBDD-0206409BA94E}"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6524EED-CDA9-4EF7-8C3D-150760C98FCF}"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A684060-9A64-417C-A149-E00FE90B5F9B}"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6B08713-CBC9-4897-9FD0-1A207ACB0D11}"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4E5E019-0DEA-46BF-9A08-422733AB3DEA}"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1911338-D64B-40D7-BA7C-6C75426A33DD}"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722D32D-AAA8-4F2D-BDE1-4A1B47B7CDEC}"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919D7E-D58E-4EAD-A6AC-B9569C984F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0518A6-2A67-4636-B085-592DF7CBFC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D84FD4-1A07-48E8-96CD-D927CF6899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FF62116-CF1D-4F43-B911-86F1694D4C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3B9AAC-9C38-4FA9-8ED7-42EFAB6D40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BE8F82-A7A0-43B6-BA96-CF220DD17A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3935C1-D104-4D1E-BF6B-E5F542CFAF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385973-7CA2-4B33-840E-2C74AAEFB4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34A241-3077-450A-868A-0F60E7D7E9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841070-36F6-4FD3-95E3-00137C7B6F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8C8876-E7BE-4FF5-941B-6745B0A420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1E2169-6DFD-4824-8931-2A60B51939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F304A8-4CE5-45CB-B773-61F389B41F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A8218C-0A81-4110-A58F-F1B51E8626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733AEA-EFD5-431D-8AEC-9F00C73D77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E20D8A-56FC-48B6-87DA-911E177F49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211B6E-C16C-4370-9E34-E811E41B09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EE1F5D-DCEE-4AE5-8B5D-659059A10B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6F2877-7FE2-440D-B5B1-5C57E5CF13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530621-47A1-4B2D-8876-E1D6D33C3F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C42867-ECCF-4F63-ACEC-AE504CED21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46DFE8-9278-4B53-A9AC-0756609B26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35EF37-0214-4955-8790-54860FE7F4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BCC33B-CC65-4ADB-9903-A7B0286CFA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7BC43-B0DD-4426-8E6B-6DB61819EC25}"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199E-6BDD-4AF4-94F3-C918565A5B5F}"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3F2E1533-6A69-4211-80E0-142D1225F7F0}" type="datetime3">
              <a:rPr b="0" lang="en-US" sz="2000" spc="-1" strike="noStrike">
                <a:solidFill>
                  <a:srgbClr val="ffffcc"/>
                </a:solidFill>
                <a:latin typeface="Tahoma"/>
              </a:rPr>
              <a:t>July 31,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