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371600" y="619200"/>
            <a:ext cx="6620040" cy="32958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660680" y="5272200"/>
            <a:ext cx="6188040" cy="18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Splendid"/>
                <a:ea typeface="Splendid"/>
              </a:rPr>
              <a:t>A short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314960" y="4467240"/>
            <a:ext cx="812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xBuilder -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UI builder for wx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ly builds GUI components of apps; user populates with extr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oad bitmaps onto canv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d in both source and executable form in wx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under all wxWindows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utili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2RTF: maintains online and printed document from a single source. Generates RTF, WinHelp, HTML, wx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xHelp: a help viewer for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MShow: converts between XPM and BMP bitmap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76880" y="1666800"/>
            <a:ext cx="3610080" cy="4419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languag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002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9051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xCL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GUI development environment and wxWindows binding to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xPyth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, interpreted wxWindows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xSch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SP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 Prolog with wxWindows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57920" y="2143080"/>
            <a:ext cx="3048120" cy="3314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7480" y="1647720"/>
            <a:ext cx="6924600" cy="492444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990720" y="152280"/>
            <a:ext cx="7848360" cy="1143000"/>
            <a:chOff x="990720" y="152280"/>
            <a:chExt cx="7848360" cy="1143000"/>
          </a:xfrm>
        </p:grpSpPr>
        <p:sp>
          <p:nvSpPr>
            <p:cNvPr id="93" name=""/>
            <p:cNvSpPr/>
            <p:nvPr/>
          </p:nvSpPr>
          <p:spPr>
            <a:xfrm>
              <a:off x="990720" y="152280"/>
              <a:ext cx="7467480" cy="1143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066680" y="152280"/>
              <a:ext cx="7772400" cy="96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rdy: a complex wxWindows applic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a-CASE tool with hyper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00080" y="361800"/>
            <a:ext cx="4086360" cy="32288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638680" y="457200"/>
            <a:ext cx="2708280" cy="2057400"/>
            <a:chOff x="5638680" y="457200"/>
            <a:chExt cx="2708280" cy="2057400"/>
          </a:xfrm>
        </p:grpSpPr>
        <p:sp>
          <p:nvSpPr>
            <p:cNvPr id="97" name=""/>
            <p:cNvSpPr/>
            <p:nvPr/>
          </p:nvSpPr>
          <p:spPr>
            <a:xfrm>
              <a:off x="5638680" y="457200"/>
              <a:ext cx="2590920" cy="20574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638680" y="838080"/>
              <a:ext cx="27082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med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 wxWind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76400" y="3924360"/>
            <a:ext cx="134316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371760" y="4267080"/>
            <a:ext cx="14763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857920" y="3838680"/>
            <a:ext cx="2905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21932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ch cleaner interface to GUI programm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anything commercial so far offered including XVT++, in my opinion. It was very quick for me to prototype code.” Edmund J. Sutcliffe,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very pleased with the platform independence of wxWind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 developed a wxWindows-based training application on the Sun using OpenLook. The problem was that four hours before the first try-out of the training [we discovered] that we would be using HPs... The solution was to create a port to Motif. I did this with the help of a colleague in two hours. Was I glad that we used wxWindows for the application!”  Twan Janssen, CASE consultant, Westmount Technology, Del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mply am in awe of the wxWindows effor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 commend this endeavor as highly as I can.” Chuck Van Tilburg, CASE consultant, Westmount Technology, Del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best in port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 just Windows, I prefer Microsoft Foundation Classes since they are closer to the Windows API. But it is better than OWL, for sure.” Marcel van der Peijl, System Developer, DigiCash 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the toolkit very mu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's very nicely structured and written.” Harco de Hilster, Nijmegen,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horiz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 for end of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/View/Persistant storage archit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/editor wi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ock and UNIX network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rtable image manipulation class, wx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95, Motif 2.0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, OS/2 and NeXTStep ports coming 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OLE 2.0/OpenDoc 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0666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62440" y="1533600"/>
            <a:ext cx="4324320" cy="45338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228600" y="152280"/>
            <a:ext cx="7924680" cy="3809880"/>
            <a:chOff x="228600" y="152280"/>
            <a:chExt cx="7924680" cy="3809880"/>
          </a:xfrm>
        </p:grpSpPr>
        <p:sp>
          <p:nvSpPr>
            <p:cNvPr id="112" name=""/>
            <p:cNvSpPr/>
            <p:nvPr/>
          </p:nvSpPr>
          <p:spPr>
            <a:xfrm>
              <a:off x="457200" y="152280"/>
              <a:ext cx="7620120" cy="10666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28600" y="152280"/>
              <a:ext cx="792468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your first multi-platform, wxWindows program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day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1080" y="1428840"/>
            <a:ext cx="3438360" cy="321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95320" y="3581280"/>
            <a:ext cx="4600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rther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62520" y="1990800"/>
            <a:ext cx="2798640" cy="332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4120" y="5410080"/>
            <a:ext cx="3505320" cy="76212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38680" y="5470560"/>
            <a:ext cx="327672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c0128"/>
                </a:solidFill>
                <a:latin typeface="Concerto"/>
                <a:ea typeface="Concerto"/>
              </a:rPr>
              <a:t>Thank you for watc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828800"/>
            <a:ext cx="6858000" cy="45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Julian Sm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Intelligence Applications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South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1 1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Smart@ed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iai.ed.ac.uk/~jacs/wxw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aiai.ed.ac.uk/pub/packages/wxw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eely-available, object-oriented multi-platform development tool for XView, Motif and Windows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GUI and OS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, NeXTStep and OS/2 ports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by Dr. Julian Smart at the Artificial Intelligence Applications Institute at the University of Edinbur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760" y="228600"/>
            <a:ext cx="898992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716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760" y="152280"/>
            <a:ext cx="8989920" cy="655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609480"/>
            <a:ext cx="77724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</a:t>
            </a:r>
            <a:r>
              <a:rPr b="0" lang="en-US" sz="5400" spc="-1" strike="noStrike">
                <a:solidFill>
                  <a:srgbClr val="fc0128"/>
                </a:solidFill>
                <a:latin typeface="Concerto"/>
                <a:ea typeface="Concerto"/>
              </a:rPr>
              <a:t>wxWindow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abstraction and 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high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il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st compilers and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us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-in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access to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760" y="76320"/>
            <a:ext cx="8989920" cy="670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&amp;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sts -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osts - none; support comes from worldwide  wxWindows use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issues  - limited pertaining to a few X utilities; University of Edinburgh authorizes use of s/w, including dissemination of ap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collapse not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43560" y="581040"/>
            <a:ext cx="17762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760" y="152280"/>
            <a:ext cx="8989920" cy="65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wxWindows source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xWindows was not intended to compete as a commercia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and fixes from user community are extremely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AI wishes to ‘put something bac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AI gains a small amount of pub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152280"/>
            <a:ext cx="8989920" cy="658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67652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object-oriented support; 150 GUI and O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hensive online and printe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E/MDI/GDI support under Windows, DDE under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for generating help file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painter generates 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es include tree drawing, toolbars, forms, hyper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clipboar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anvas, PostScript, bitmaps, meta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printer device contexts for generic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to CLIPS, Python, Scheme, Perl,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 lay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15160" y="476280"/>
            <a:ext cx="873360" cy="722520"/>
          </a:xfrm>
          <a:custGeom>
            <a:avLst/>
            <a:gdLst/>
            <a:ahLst/>
            <a:rect l="0" t="0" r="r" b="b"/>
            <a:pathLst>
              <a:path w="2426" h="2007">
                <a:moveTo>
                  <a:pt x="2426" y="282"/>
                </a:moveTo>
                <a:lnTo>
                  <a:pt x="2347" y="313"/>
                </a:lnTo>
                <a:lnTo>
                  <a:pt x="2264" y="352"/>
                </a:lnTo>
                <a:lnTo>
                  <a:pt x="2173" y="404"/>
                </a:lnTo>
                <a:lnTo>
                  <a:pt x="2086" y="461"/>
                </a:lnTo>
                <a:lnTo>
                  <a:pt x="1902" y="583"/>
                </a:lnTo>
                <a:lnTo>
                  <a:pt x="1820" y="644"/>
                </a:lnTo>
                <a:lnTo>
                  <a:pt x="1741" y="696"/>
                </a:lnTo>
                <a:lnTo>
                  <a:pt x="1702" y="731"/>
                </a:lnTo>
                <a:lnTo>
                  <a:pt x="1662" y="770"/>
                </a:lnTo>
                <a:lnTo>
                  <a:pt x="1558" y="861"/>
                </a:lnTo>
                <a:lnTo>
                  <a:pt x="1444" y="970"/>
                </a:lnTo>
                <a:lnTo>
                  <a:pt x="1331" y="1084"/>
                </a:lnTo>
                <a:lnTo>
                  <a:pt x="1218" y="1197"/>
                </a:lnTo>
                <a:lnTo>
                  <a:pt x="1112" y="1302"/>
                </a:lnTo>
                <a:lnTo>
                  <a:pt x="990" y="1424"/>
                </a:lnTo>
                <a:lnTo>
                  <a:pt x="964" y="1454"/>
                </a:lnTo>
                <a:lnTo>
                  <a:pt x="859" y="1567"/>
                </a:lnTo>
                <a:lnTo>
                  <a:pt x="806" y="1624"/>
                </a:lnTo>
                <a:lnTo>
                  <a:pt x="745" y="1685"/>
                </a:lnTo>
                <a:lnTo>
                  <a:pt x="689" y="1750"/>
                </a:lnTo>
                <a:lnTo>
                  <a:pt x="623" y="1828"/>
                </a:lnTo>
                <a:lnTo>
                  <a:pt x="553" y="1911"/>
                </a:lnTo>
                <a:lnTo>
                  <a:pt x="475" y="2007"/>
                </a:lnTo>
                <a:lnTo>
                  <a:pt x="466" y="1950"/>
                </a:lnTo>
                <a:lnTo>
                  <a:pt x="449" y="1894"/>
                </a:lnTo>
                <a:lnTo>
                  <a:pt x="401" y="1781"/>
                </a:lnTo>
                <a:lnTo>
                  <a:pt x="340" y="1663"/>
                </a:lnTo>
                <a:lnTo>
                  <a:pt x="287" y="1567"/>
                </a:lnTo>
                <a:lnTo>
                  <a:pt x="226" y="1445"/>
                </a:lnTo>
                <a:lnTo>
                  <a:pt x="157" y="1311"/>
                </a:lnTo>
                <a:lnTo>
                  <a:pt x="82" y="1171"/>
                </a:lnTo>
                <a:lnTo>
                  <a:pt x="0" y="1036"/>
                </a:lnTo>
                <a:lnTo>
                  <a:pt x="0" y="1028"/>
                </a:lnTo>
                <a:lnTo>
                  <a:pt x="4" y="1019"/>
                </a:lnTo>
                <a:lnTo>
                  <a:pt x="26" y="987"/>
                </a:lnTo>
                <a:lnTo>
                  <a:pt x="117" y="900"/>
                </a:lnTo>
                <a:lnTo>
                  <a:pt x="226" y="796"/>
                </a:lnTo>
                <a:lnTo>
                  <a:pt x="270" y="748"/>
                </a:lnTo>
                <a:lnTo>
                  <a:pt x="305" y="705"/>
                </a:lnTo>
                <a:lnTo>
                  <a:pt x="375" y="835"/>
                </a:lnTo>
                <a:lnTo>
                  <a:pt x="431" y="957"/>
                </a:lnTo>
                <a:lnTo>
                  <a:pt x="484" y="1062"/>
                </a:lnTo>
                <a:lnTo>
                  <a:pt x="510" y="1106"/>
                </a:lnTo>
                <a:lnTo>
                  <a:pt x="532" y="1145"/>
                </a:lnTo>
                <a:lnTo>
                  <a:pt x="562" y="1197"/>
                </a:lnTo>
                <a:lnTo>
                  <a:pt x="588" y="1263"/>
                </a:lnTo>
                <a:lnTo>
                  <a:pt x="623" y="1341"/>
                </a:lnTo>
                <a:lnTo>
                  <a:pt x="663" y="1437"/>
                </a:lnTo>
                <a:lnTo>
                  <a:pt x="741" y="1332"/>
                </a:lnTo>
                <a:lnTo>
                  <a:pt x="833" y="1224"/>
                </a:lnTo>
                <a:lnTo>
                  <a:pt x="929" y="1115"/>
                </a:lnTo>
                <a:lnTo>
                  <a:pt x="1012" y="1015"/>
                </a:lnTo>
                <a:lnTo>
                  <a:pt x="1033" y="987"/>
                </a:lnTo>
                <a:lnTo>
                  <a:pt x="1055" y="957"/>
                </a:lnTo>
                <a:lnTo>
                  <a:pt x="1125" y="883"/>
                </a:lnTo>
                <a:lnTo>
                  <a:pt x="1199" y="796"/>
                </a:lnTo>
                <a:lnTo>
                  <a:pt x="1283" y="696"/>
                </a:lnTo>
                <a:lnTo>
                  <a:pt x="1370" y="604"/>
                </a:lnTo>
                <a:lnTo>
                  <a:pt x="1453" y="513"/>
                </a:lnTo>
                <a:lnTo>
                  <a:pt x="1562" y="409"/>
                </a:lnTo>
                <a:lnTo>
                  <a:pt x="1593" y="378"/>
                </a:lnTo>
                <a:lnTo>
                  <a:pt x="1654" y="330"/>
                </a:lnTo>
                <a:lnTo>
                  <a:pt x="1719" y="278"/>
                </a:lnTo>
                <a:lnTo>
                  <a:pt x="1863" y="161"/>
                </a:lnTo>
                <a:lnTo>
                  <a:pt x="1942" y="108"/>
                </a:lnTo>
                <a:lnTo>
                  <a:pt x="2011" y="56"/>
                </a:lnTo>
                <a:lnTo>
                  <a:pt x="2086" y="21"/>
                </a:lnTo>
                <a:lnTo>
                  <a:pt x="2147" y="0"/>
                </a:lnTo>
                <a:lnTo>
                  <a:pt x="2168" y="13"/>
                </a:lnTo>
                <a:lnTo>
                  <a:pt x="2221" y="60"/>
                </a:lnTo>
                <a:lnTo>
                  <a:pt x="2256" y="95"/>
                </a:lnTo>
                <a:lnTo>
                  <a:pt x="2291" y="130"/>
                </a:lnTo>
                <a:lnTo>
                  <a:pt x="2330" y="174"/>
                </a:lnTo>
                <a:lnTo>
                  <a:pt x="2378" y="221"/>
                </a:lnTo>
                <a:lnTo>
                  <a:pt x="2426" y="282"/>
                </a:lnTo>
                <a:lnTo>
                  <a:pt x="2417" y="282"/>
                </a:lnTo>
                <a:lnTo>
                  <a:pt x="2426" y="28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760" y="152280"/>
            <a:ext cx="898992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175248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style controls , bitmap buttons, toolbars, messages and radio butt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y titlebars under Windo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ge cla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M pixmap functionality for icons and bitma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libraries for retrieving BMP, GIF  raster files and metafi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gIO: flexible, object/attribute file format fac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icon lo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905120"/>
            <a:ext cx="2362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219320"/>
            <a:ext cx="7391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800680" y="628560"/>
            <a:ext cx="17924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760" y="152280"/>
            <a:ext cx="8989920" cy="655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ew 3.2, Motif 1.2, Most variants of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3.1, Windows NT,   WIN3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: SunOS and Solaris 2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con Graphics I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X/RS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IX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, OS/2 and NeXTStep ports are in 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716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760" y="152280"/>
            <a:ext cx="898992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U C++ (GCC)                       AT&amp;T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 C++                                      HP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/C++ 7                      Microsoft C++ for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C++                 Borland C++ 3.1, 4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antec C++                            Zortech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om C++ (in 16-bit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land Turbo C++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t Strohmeier, Julian Smart</dc:creator>
  <dc:description>Please feel free to use and modify this presentation however you see fit.</dc:description>
  <dc:language>en-US</dc:language>
  <cp:lastModifiedBy>Julian Smart</cp:lastModifiedBy>
  <cp:revision>0</cp:revision>
  <dc:subject>Description of wxWindows, a GUI class lib</dc:subject>
  <dc:title>wxWindows presentation</dc:title>
</cp:coreProperties>
</file>