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1524FA7-F02B-4668-94EE-F203AFC8BE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170352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a6792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a6792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1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2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12952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da Server Inte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eter Br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9320" y="20448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29200" y="2057400"/>
            <a:ext cx="358128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Key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rea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9320" y="205740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2406600"/>
            <a:ext cx="1982880" cy="13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ectory c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es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19320" y="37908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info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4235400"/>
            <a:ext cx="198288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db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5181480"/>
            <a:ext cx="198288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rvers/S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rtup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kip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LOG &amp; DATA &amp; DB Lo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74920" y="20574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Fil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74920" y="240660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Meta Data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76720" y="377820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76720" y="44956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76720" y="518148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Configur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2057400"/>
            <a:ext cx="304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/vicep*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066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560" y="3778200"/>
            <a:ext cx="2970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LDB, VRDB: RW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560" y="4191120"/>
            <a:ext cx="3427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, .pdb, .tk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ynamic RO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560" y="51814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4440" y="23623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4440" y="36576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4440" y="41148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4440" y="50292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4440" y="67057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RVM layout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oda_globals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Already_initialized (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olHead[MAXVOL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nodeDiskObject *SmallVnodeFreeLists[SM_FREESIZ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hort SmallVnode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. Same for larg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MaxVolId (unsigned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Remainder is dynamically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419040"/>
            <a:ext cx="7772400" cy="11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olume zoo           </a:t>
            </a:r>
            <a:r>
              <a:rPr b="0" lang="en-US" sz="2400" spc="-1" strike="noStrike">
                <a:solidFill>
                  <a:srgbClr val="ccffff"/>
                </a:solidFill>
                <a:latin typeface="Impact"/>
                <a:ea typeface="Impact"/>
              </a:rPr>
              <a:t>(volume.h, camprivate.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9320" y="2044800"/>
            <a:ext cx="3352680" cy="47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isk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Info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76920" y="2044800"/>
            <a:ext cx="41148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PC2 str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a dozen or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ttached volumes are on a Hash table in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GetVolume (from RVM), work, Replace, Com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  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vnode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19320" y="2044800"/>
            <a:ext cx="77724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mall &amp; l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difference is ACL at back of large v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 R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nodes sit on rec_smolists linking vnodes with identical vnodenumbers but different uniq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 have *arrays of rec_smo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Diskinfo (rvm_mallo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cvnode’s with a world of support: hash tables, freelists etc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GetVnode, work, ReplaceVnode,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(c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ode fi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small vnodes: points to diskfile inod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large vnodes: is RVM address of dir page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Contain important small structure: vv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ointers to reslog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Dir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2044800"/>
            <a:ext cx="7772400" cy="513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agetable (about to disapp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vided into 32byte bl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Hash tabl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Blob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maintains buffer cache for di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Before committing to RVM stage pages in the DirHtb (another page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am</dc:creator>
  <dc:description/>
  <dc:language>en-US</dc:language>
  <cp:lastModifiedBy>braam</cp:lastModifiedBy>
  <cp:revision>0</cp:revision>
  <dc:subject/>
  <dc:title>Coda Server Internals</dc:title>
</cp:coreProperties>
</file>