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98242"/>
        <c:axId val="57440742"/>
      </c:barChart>
      <c:catAx>
        <c:axId val="10798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40742"/>
        <c:crosses val="autoZero"/>
        <c:auto val="1"/>
        <c:lblAlgn val="ctr"/>
        <c:lblOffset val="100"/>
        <c:noMultiLvlLbl val="0"/>
      </c:catAx>
      <c:valAx>
        <c:axId val="57440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98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072-94B6-4947-9B8F-26777BAB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2CE-D122-48EE-BA13-023E0F65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88E-80D1-4232-A119-2206BCBD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F23-85C6-4365-9B62-2714B94C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62C-7AC9-46B8-A605-A04C49D5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EFE-6859-4634-9174-7D7BABCE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E7A-8339-4220-84F1-40F9240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86F-518F-43AD-A97D-CF2D8AF1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AC8-390B-41CB-BC0C-43FF592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C83-8B6C-4936-BD8E-F83A1C1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FBA-FB0E-4F40-82E1-EA9B2DA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D41-599A-4984-B3C5-0FC9FD5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DEEA2-94F8-4977-8F7E-D725C5487B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