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934348"/>
        <c:axId val="43867662"/>
      </c:barChart>
      <c:catAx>
        <c:axId val="789343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67662"/>
        <c:crosses val="autoZero"/>
        <c:auto val="1"/>
        <c:lblAlgn val="ctr"/>
        <c:lblOffset val="100"/>
        <c:noMultiLvlLbl val="0"/>
      </c:catAx>
      <c:valAx>
        <c:axId val="438676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9343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1F35-195D-4E28-97C3-676A7289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E4FF-A6FE-4A61-B901-BBDB09FB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BC45-8626-461A-B937-8C2B6091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886A-16CF-471C-9168-EA8B92FE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B83-C250-42B5-A48E-1A2E3A62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AD1-6D2C-4F8B-9792-EC00DC2F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AEC9-CE62-4CA1-B55D-72925680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08D-0A3D-49BB-90A1-3982872A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0AF1-BF65-48D8-BA32-6655A781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DA49-14CB-4981-BA95-F18CF6E8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E4B-7F3E-4FA2-A21C-7947138E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40BA-F595-49BF-BD17-11860B32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75FDE-6182-460A-8D4E-505C17ABEC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