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02083"/>
        <c:axId val="29401466"/>
      </c:barChart>
      <c:catAx>
        <c:axId val="98502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01466"/>
        <c:crosses val="autoZero"/>
        <c:auto val="1"/>
        <c:lblAlgn val="ctr"/>
        <c:lblOffset val="100"/>
        <c:noMultiLvlLbl val="0"/>
      </c:catAx>
      <c:valAx>
        <c:axId val="29401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2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0AA7-4602-4DD5-8621-9834AA26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B2D-134F-4974-A249-4660F5FE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005-D51E-4B6F-B9A6-4CAC165B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D39-EFA7-4107-AACA-6B01DDE0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EF8-36DB-46A5-A564-BEBA414C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DFB-F707-4533-88C4-E7E0B88D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190-CB39-4C2D-8457-2E359154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CCA-A746-4E46-A032-440C44A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466-143E-4E42-AB0F-F0D64BAD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55C-7CE7-4D67-865B-271C404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61E-0C24-4D60-B5CA-73F385D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E8C-B5F3-472C-B2AF-7D66967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0F168-E9E2-4480-8C8C-FD15597A0B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