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04233"/>
        <c:axId val="73866337"/>
      </c:barChart>
      <c:catAx>
        <c:axId val="17204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66337"/>
        <c:crosses val="autoZero"/>
        <c:auto val="1"/>
        <c:lblAlgn val="ctr"/>
        <c:lblOffset val="100"/>
        <c:noMultiLvlLbl val="0"/>
      </c:catAx>
      <c:valAx>
        <c:axId val="73866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04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DD5-5866-4908-A19D-FDD2F802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6B4-977A-4661-BDE4-761DE0E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D58-F0FE-4A53-831A-98920778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CE4-A3AD-4FEF-B82A-FB6E60AB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AF7-4F92-4AD0-97EC-D1B6F97F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52F-A552-46FC-B834-2B18AFD2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7E1-2825-46ED-81C5-868F39D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795-2E95-4387-9EA2-C96F48FA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2AC-BF08-4205-833C-C163BEB6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C2C-89E9-4FF5-A803-B912B967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290-DAEA-4664-B139-3C9DA32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09F-2693-4983-B024-32EB9E1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9D942-3BDB-4770-853C-5B29B699B8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