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96652"/>
        <c:axId val="38938900"/>
      </c:barChart>
      <c:catAx>
        <c:axId val="5469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38900"/>
        <c:crosses val="autoZero"/>
        <c:auto val="1"/>
        <c:lblAlgn val="ctr"/>
        <c:lblOffset val="100"/>
        <c:noMultiLvlLbl val="0"/>
      </c:catAx>
      <c:valAx>
        <c:axId val="38938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9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3CF-6A61-40FE-989B-4603B4C5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906-E0C2-46C1-8C7F-A088702F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267-0777-41AE-9E6C-E96AC3B2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0C8-65CF-4823-9839-DACC3578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17F-3035-4FEB-A54E-9C5B0372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C52-D23A-4062-9587-EC7BF30B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273-A1EE-4A9C-920E-55514CD0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F0D-D75C-4965-857C-0B1CF1E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5CF-8DC0-4575-83AE-5FC2F2BF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363-246A-4DDE-A064-621E521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11A-DFD6-4991-8906-E71FEAF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BE1-8FF1-449D-B99E-D7A6940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F80DC-0C6E-4CE3-B9BE-86FD535817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