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341592"/>
        <c:axId val="8830539"/>
      </c:barChart>
      <c:catAx>
        <c:axId val="353415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0539"/>
        <c:crosses val="autoZero"/>
        <c:auto val="1"/>
        <c:lblAlgn val="ctr"/>
        <c:lblOffset val="100"/>
        <c:noMultiLvlLbl val="0"/>
      </c:catAx>
      <c:valAx>
        <c:axId val="88305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415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3419-0878-42C1-BAC9-E8967C7FE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2734-EA43-4FFB-9B91-04884AFA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CC84-D384-41A1-9993-0CA5AD2B6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E672-632A-4E6C-A65D-C2F59777C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D562-2B87-4E2E-9E43-9A1F6429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C7F8-1C89-4842-9156-147E52D8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666E-ECE8-4AB8-A956-F33BBA2A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1626-83B6-4593-A6F5-500F1294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7E5A-752E-4431-A13C-823FFE46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792E-59A6-4F23-B61F-B0F7B9E0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4AAB-5D38-44AC-A510-6C1BC9EF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4427-54D6-440A-A47F-9A0DF762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CAE13-ECEB-4F20-BF76-81D77072BD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