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93083"/>
        <c:axId val="44495387"/>
      </c:barChart>
      <c:catAx>
        <c:axId val="51493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95387"/>
        <c:crosses val="autoZero"/>
        <c:auto val="1"/>
        <c:lblAlgn val="ctr"/>
        <c:lblOffset val="100"/>
        <c:noMultiLvlLbl val="0"/>
      </c:catAx>
      <c:valAx>
        <c:axId val="44495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93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6DE-209E-440C-88B3-4DD6F9F0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E0B-5C1C-436B-8CB6-BDE880DD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99F-D784-4F7C-82E4-487D2A38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265-28F4-406E-A10F-E850F9A6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CA1-8BCC-437D-B59D-72D5FC10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784-65F8-46AC-AC7E-2B948CF4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56A-817F-41DA-AB77-0D68976B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429-962F-4073-9989-AEB0F9B3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BC1-B084-4517-B003-7EB3A779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539-77E3-4444-B13D-846D38F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5A5-F74D-48CE-9D8F-7D4A680A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005-E077-4233-935C-B8D1C7BB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83A67-C6C2-465D-8295-46C69401A1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