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391479"/>
        <c:axId val="35709467"/>
      </c:barChart>
      <c:catAx>
        <c:axId val="66391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09467"/>
        <c:crosses val="autoZero"/>
        <c:auto val="1"/>
        <c:lblAlgn val="ctr"/>
        <c:lblOffset val="100"/>
        <c:noMultiLvlLbl val="0"/>
      </c:catAx>
      <c:valAx>
        <c:axId val="35709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91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E04-3AEF-4178-9FD6-1B6F4567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A615-3AC1-43F8-A279-2A33ABE2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DA40-3A0B-42E5-9D9B-654BB359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EB49-57BE-43CA-8A95-664FD80A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D132-ED0B-48E2-A3F4-652B7420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27EA-E19F-4982-8FC7-E9C26784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D65-916D-42DF-860B-C4125113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57C-48CA-4B07-A35F-319FAC87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611-2CDC-448B-860A-3D132F46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8E33-B335-4A1C-B2F9-C109C517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FC61-9B3A-4C51-BF1A-10CC1E2A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0049-3A0F-4965-BCD0-5096B6F7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47F9F-3E60-4C7F-8CDA-8B9041B2BE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